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9EB79-BCC7-4957-8866-DE9F6BEBAF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B55CE-F647-4773-9AB5-E742F9C737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9BEB3-93E0-41E6-9B79-2BBBD9F8BF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30C72-B207-4C90-BC1C-B8D78096B9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945C1-64DD-40EF-AB89-1B315CD537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3ED4D-1FEC-41BD-B751-2E3D2B6F00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08050-4435-4ACB-BC97-0742B22D67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85C25-29F6-43E4-9452-0821EC6D52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F694C-02EF-47DD-A8DD-219B496CD2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595C6-CA86-4210-875E-1B34167493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46198-BC97-4CCB-9F23-09299E5342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B981F-9604-4DEC-8A5D-E698FBA068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924BF-119C-4B82-B9F4-CA18818D3D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3857A-C939-491C-A803-54094469E8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9D3F0-4B41-46A6-A0A2-DA4E291BBA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6E63-2388-4EA5-897B-E02DE05C1F1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994D-9989-4E1B-A76A-6E7BEA7A9E1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6B7E-9605-462F-8C55-D0DF6A72B22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5F48-EF92-4125-8F5A-BE29B41D4A1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C7BA-3D4F-4308-B0EE-C5151206BF8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A5A0-A54B-4F82-BF6E-32AA8F1CF17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4CBE-8221-497C-AF53-3FFF0E9003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C8E68-2892-4964-9259-3855674B38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CBA7-CF63-471C-9636-4597004439E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F22D-7D0F-4C28-B8F0-E67CB550558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4268-D168-4D0F-AF5B-B02A8FD2645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73D5-63AD-42A5-B07C-DFF930B3395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A428-8674-4E6D-AD8E-6663DDEC61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AE121-8CD6-4DD1-98B2-8E43DBABDA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E986F-16F7-4F0E-92C9-B4DD961170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8C62A-2E82-45F9-A53E-852C554340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3C660-5A0A-4CD5-A0F7-F5AFBEF7B7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64D2D-5DCB-4425-8F1A-329249A3A9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9DE51-39F7-4B9F-8846-74CFBE95FB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5E1BF-AC50-49BD-80D1-E98C296A82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3316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1F741-53D5-48D6-A7E9-7BBBC8A398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AF37D-0C36-4AB3-99A5-7B223DDD90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EQA Scheme Organization</a:t>
            </a:r>
            <a:br>
              <a:rPr sz="5000"/>
            </a:b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FE03-0B1B-4F4E-836C-06972F0516C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392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interests of th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ims and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fidentiality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cknowled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me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53759-BFC3-48E8-8576-3B89381C8F3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Moni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ries, feedback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ference” role of the EQA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s and recommendations from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participating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solving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recommending certai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90720" y="4267080"/>
            <a:ext cx="2514600" cy="1884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505320" y="4343400"/>
            <a:ext cx="5105160" cy="1641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erfect is not too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muc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F28D8-1488-4D4F-B613-73CAE28FE7E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 already controlled by a international EQA organ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involve the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im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non-contaminating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good communication strate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ay careful attention to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1219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Verdana"/>
                <a:ea typeface="SimSun"/>
              </a:rPr>
              <a:t>Starting an EQA Program at 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7d"/>
                </a:solidFill>
                <a:latin typeface="Verdana"/>
                <a:ea typeface="SimSun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4C493-1065-4F7E-AC2A-5CD47B6B4F1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638680" y="20574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148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163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164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165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7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170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74"/>
              <p:cNvSpPr/>
              <p:nvPr/>
            </p:nvSpPr>
            <p:spPr>
              <a:xfrm>
                <a:off x="22654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173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174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179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184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188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191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197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200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203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8A7AD-4AF4-4675-9E88-804387E1E17D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tional proficiency testing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twork of laboratories – interlaboratory comparisons/reche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/- on-site eval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82E9C-8BFE-4176-B891-E7C4C8EFCF6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rior Participation (and Success!) in a PT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  <a:ea typeface="SimSun"/>
              </a:rPr>
              <a:t>need to subscribe to a foreign sche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monitor its own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mperative and oblig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 question of conf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1B77D-BFA2-4AF7-8A7E-1F83E9BFE79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Involve the Auth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guarantees </a:t>
            </a:r>
            <a:r>
              <a:rPr b="0" lang="en-GB" sz="3200" spc="-1" strike="noStrike">
                <a:solidFill>
                  <a:srgbClr val="ff0066"/>
                </a:solidFill>
                <a:latin typeface="Verdana"/>
                <a:ea typeface="SimSun"/>
              </a:rPr>
              <a:t>du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ed to the institution’s man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means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liaise with operating licensing / certification / accreditation / national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(EQA activities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reate savings,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them is worth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400800" y="3962520"/>
            <a:ext cx="2133720" cy="21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9DD9F-CA0A-49D0-A0B3-4D08AA6C0B4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im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roficienc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, stained or uns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Gram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acid-fast bacilli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ara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of bacterial str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nteric microorganisms 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Rechec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 (AFB, Gram, CSF, ot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bacterial strains if materials and technical capability is present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 strain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51460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4952880" y="23623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1CE21-C15C-42F8-AA72-39157F0E6E2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m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mall number of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ilot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verify transportation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4-5 laboratories for a test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(outside of the prog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first study with basic materials (sli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laboratories for the first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3 items per parcel (minimum 2 per y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553080" y="1600200"/>
            <a:ext cx="2151360" cy="2590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rot="19759200">
            <a:off x="7238880" y="2209680"/>
            <a:ext cx="914400" cy="5335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ED4E2-2B76-4196-8F10-E52502C399A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SimSun"/>
              </a:rPr>
              <a:t>Start with Non-Contaminating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n the beginning, avoid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dangerous” pathoge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ntaminated s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follow national transportation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CC90E-13EE-4E7D-A3F6-1BFAD3BC372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hysical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51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personal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small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mmunic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105520" y="1622520"/>
            <a:ext cx="3352680" cy="251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0CA7E-3EC7-4C12-BA6A-28741BB0C81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articipating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uth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scientific 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rofessional assoc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ny other with interest in 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858000" y="2590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EQ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34C98-B069-46CC-A775-636FD6757B0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Robin Barteluk</cp:lastModifiedBy>
  <dcterms:modified xsi:type="dcterms:W3CDTF">2008-11-28T02:21:01Z</dcterms:modified>
  <cp:revision>12</cp:revision>
  <dc:subject/>
  <dc:title>EQA scheme Organization optional</dc:title>
</cp:coreProperties>
</file>